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586E-EDFE-44C8-A7AE-7DB9034F65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9591-04BB-4572-AC80-B826893188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8C0-257E-4033-90FF-68B0F6C4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B50-9158-4D21-B475-122B4C81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FBC-3A0C-44C5-BF4C-1FBE5D4B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26F-6D41-47F2-81D4-8B08B8AB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FBA-FD31-45D5-8C20-CF926AD6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9A8-0C42-43B1-9F1E-C493D2A2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4E6-591E-4FC7-8BF8-CC0BF7D6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8D1-2EDE-46B2-83C7-AFFCDC3E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8FA-FA19-48A1-9E6F-33913E8B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FC3-66C6-4910-B619-1E6402C1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3A7D-3F73-4A87-BEAC-50AFF256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682-66ED-42F2-B09B-728BBA70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a zaměstnanost a státního rozpočtu Č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09CC-7FC5-4597-B3C9-E69268440AB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arevné logo pro záhlaví ESF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1"/>
          <p:cNvSpPr/>
          <p:nvPr/>
        </p:nvSpPr>
        <p:spPr>
          <a:xfrm>
            <a:off x="468360" y="624528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</a:t>
            </a:r>
            <a:br>
              <a:rPr sz="1100"/>
            </a:b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a zaměstnanost a státního rozpočtu Č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MPSV123</cp:lastModifiedBy>
  <dcterms:modified xsi:type="dcterms:W3CDTF">2013-11-21T11:24:03Z</dcterms:modified>
  <cp:revision>3</cp:revision>
  <dc:subject/>
  <dc:title>Poznámka: obrázek s logy je třeba umístit do záhlaví každého slidu</dc:title>
</cp:coreProperties>
</file>